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A56F-3A8C-4F2B-A96E-787415BB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63E-A861-425F-A5D6-E7BE362B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1BAE-59F7-4FF9-A13F-A5984C1FC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98B-FABC-4D1D-BF50-78A018F7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F87-131E-44F1-AB0C-9DBDA7F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856-1F94-4488-8EAF-CBEEB422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73A-A8A6-41E4-B860-A592BB3B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C205-95E7-4B0F-B1EB-A0342EA4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E71A-8563-4928-952B-2ACEB5FB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4D93-525F-420D-948B-1322C55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C2B4-2383-4EDE-B718-4DA0A0A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0506-D916-4F47-BBE6-7FB748D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DF81-8DDF-4B6D-A068-E13D74E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AB9-1FEA-4F0D-A720-E71E3F74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708-2A21-4308-BA1C-2DD4FCD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9A78-9D48-4954-87DB-92B6D45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1791-0567-4C0F-A63D-0C4459C7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93C4-9787-490A-B2F4-ECC627DC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DA6E-C64C-46C2-9DF5-BD3535C8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A7D7-C377-4733-A07C-21AE2C50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0BEB-FB90-46C9-A205-36602648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EF70-8000-4F25-B5CE-4EC5FA9C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1392-AD7E-4EB0-9AC6-AA1AB6E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F78C-C3E3-429D-977C-073494FD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CAB8-259F-4D1B-9070-A0372C3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F65-29D4-4889-9F58-CD2D5571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D7F9-2DAE-4358-84D6-9205077A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C1A5-B279-4027-A466-2F4B9F9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F3F9-8060-440A-BE5A-2A4F86B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16F2-A815-4ED8-8C76-521AEFD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8BB1-791D-4AE6-A296-ABF3BDBF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EAF9-1F19-490A-A909-8046E692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F568-96B0-4401-A2D5-73887B8A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0FBB-6BA5-47BE-B4F8-8AF88D8D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123F-9932-4906-81E0-B395D5F7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7F2E-CA14-404A-947A-837AF13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72D-4946-42E4-90E6-7EF45BB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2E4F-C3BA-408B-BBA2-0AD9FE16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B88D-A5BB-47F6-973A-62B113E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BC62-0662-40D8-8E8A-B6C0CB0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E1BF7-D1E8-4711-8789-A952863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AEC2-6352-413C-9937-B450DC1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6139-9395-42B5-BAED-1CE0FCC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5D18-79BA-4997-BE37-E3A2F351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6DA7-4FDF-4771-9AB2-64B7C333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5E6F-84D7-4C97-91D3-AAEA98AA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F5071-B8BE-4898-909D-591D2DD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3F1-A353-4935-ABE8-EB82647E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FB7F3-C47E-43EA-ACCB-3001018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56B8-2B19-431D-8FFA-61392DBA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4AB5-19FF-448D-9EA2-DEEE375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0D26-002A-44C5-9E66-1EB5D8AB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F437-6702-4445-A94F-50C30CD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1C89-5DD3-4B9B-9D28-B5C1FB7B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3F4C-5035-40F6-86BF-2DDB5F5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CF6B5-C0BF-457F-A9FB-7E02F12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54616-00F2-43B2-882B-296F2CC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F539F-9B74-45AD-A293-7B5BE46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66D-A4AA-4168-9D4D-2E4EDFC8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905C-E379-4491-8029-0195A073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3D5D-E5D2-4EBC-8E48-1B2792F3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11F5-F114-4608-BD78-7E578839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79C2-9C32-4461-80A6-AE8BFF1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921F-7170-48E4-BEDA-CA3C3FA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3744-17EA-4D64-B6D6-59DA139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DA34C-6D62-4284-8DB8-391A4606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B8019-D1E3-4E5D-9846-C0521F4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1E8F-08BF-4CA1-ACAC-8798B89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F2541-CB2D-4C3A-BDC4-DEB321C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67E-BD75-47F9-8136-81700F28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F6A9-A48C-4527-9484-0A765FB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7A7D-12DC-4D14-941C-8FF3F8CC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CDABD-4344-4A9C-9CD9-230577AB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04514-7552-4688-94C6-1CAC559A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04AD-677B-42CA-824B-259CA2BF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9FAF0-B2DD-4CCA-A5C8-6186C3ED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21F2-9980-4E76-B0EF-6637EB8C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B990-37F9-4A14-8C09-922AB7B6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D194-5C22-48ED-BE1A-4DCCC86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A08FF-C004-462A-8D7D-34D70CB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62C-405F-4420-B001-26CE91F3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BD0B-0FD7-4C47-A9CB-08C38C5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71F6-B868-4FD2-91FA-C42EA13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66BC-6E3E-47C4-88DF-04DE9CD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DDA57-3798-41D4-A40E-EBDBD78A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11D4-9705-4C09-8D5C-EA9F1F43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3730-7E57-4944-901B-8FA47452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BD96-D2A7-4ED9-BDB6-FA70E4E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7754-0F73-460E-8F08-F6779554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1910A-20E6-4C77-AA85-31B54FDD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DCAB-2256-4320-BAFE-E6AABD8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DB0-F422-4DD1-B5C4-9AED96A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AA1A-A0C0-446A-BC09-EBE6EA8C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FF14-8D5E-41AB-B0B0-1DA6C75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EA089-E0EA-4097-9B40-990EE77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73B3-3F62-4811-84A7-C6AE5B5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42E3A-911A-4F39-9792-5CB0C5E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1BF8-C5BE-44CB-AED5-9ABAAA7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8E9FF-5C73-404A-825A-C785D0E9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6B2-F0A0-4A3C-B4B9-B5110214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D70-80B1-4329-A1D4-13F5096E46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6ECD-C905-42D0-951E-85B3218E37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425D-DF56-4320-871A-F1722522B8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6836-C962-4896-9B70-3620E9047C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9C51-CA80-4707-A311-8F686F0279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9640-E1A2-4A11-AA76-6C11D5D9F0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36A-6937-4E92-9531-96B81BC077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0" y="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4-4 &amp; 5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Finish Blabberize Bi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0" y="1828800"/>
            <a:ext cx="9144000" cy="162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4-4 &amp; 5-12  Use your Timeline on the “Jeopardy: Middle Ages”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d Rome fa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vent help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ark Age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593080" y="2201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.D. 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262480" y="248760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usades; it helped in opening up trade and the exchange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The Siege of Antioch, from a medieval miniature painting, during the First Crusade."/>
          <p:cNvPicPr/>
          <p:nvPr/>
        </p:nvPicPr>
        <p:blipFill>
          <a:blip r:embed="rId1"/>
          <a:stretch/>
        </p:blipFill>
        <p:spPr>
          <a:xfrm>
            <a:off x="0" y="3222720"/>
            <a:ext cx="2971800" cy="363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The Middle Ages:  What was it &#13;&#10;really like to live in the Middle Ages?"/>
          <p:cNvPicPr/>
          <p:nvPr/>
        </p:nvPicPr>
        <p:blipFill>
          <a:blip r:embed="rId2"/>
          <a:srcRect l="14548" t="0" r="15634" b="27279"/>
          <a:stretch/>
        </p:blipFill>
        <p:spPr>
          <a:xfrm>
            <a:off x="2666880" y="304920"/>
            <a:ext cx="4191120" cy="1447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Image:Plague victims blessed by priest.jpg"/>
          <p:cNvPicPr/>
          <p:nvPr/>
        </p:nvPicPr>
        <p:blipFill>
          <a:blip r:embed="rId3"/>
          <a:srcRect l="12684" t="12602" r="11197" b="12602"/>
          <a:stretch/>
        </p:blipFill>
        <p:spPr>
          <a:xfrm>
            <a:off x="3048120" y="3200400"/>
            <a:ext cx="353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crusades"/>
          <p:cNvPicPr/>
          <p:nvPr/>
        </p:nvPicPr>
        <p:blipFill>
          <a:blip r:embed="rId1"/>
          <a:stretch/>
        </p:blipFill>
        <p:spPr>
          <a:xfrm>
            <a:off x="2362320" y="838080"/>
            <a:ext cx="4608360" cy="4461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rusa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5029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e4df"/>
                </a:solidFill>
                <a:latin typeface="Tahoma"/>
              </a:rPr>
              <a:t>Around A.D. 1000, Muslims in Jerusalem no longer welcomed Christians visitors. The Christians went on several journeys to try to capture Jerusalem. These journeys were called the Crusad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Christians made long difficult journeys to Jerusalem during the Crusades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7" name="Picture 6" descr="map_of_Crusades2"/>
          <p:cNvPicPr/>
          <p:nvPr/>
        </p:nvPicPr>
        <p:blipFill>
          <a:blip r:embed="rId1"/>
          <a:stretch/>
        </p:blipFill>
        <p:spPr>
          <a:xfrm>
            <a:off x="1525680" y="1600200"/>
            <a:ext cx="60926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9" name="Content Placeholder 3" descr="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te Middle 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Black Dea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vastating worldwide pandemic first struck Europe in the mid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killed about a third of Europe’s population, an estimated 34 million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Picture 4" descr="stinnocents1"/>
          <p:cNvPicPr/>
          <p:nvPr/>
        </p:nvPicPr>
        <p:blipFill>
          <a:blip r:embed="rId1"/>
          <a:stretch/>
        </p:blipFill>
        <p:spPr>
          <a:xfrm>
            <a:off x="2971800" y="1689120"/>
            <a:ext cx="60199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5943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bonic Plag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ed “black death” because a sufferers' skin would blacken due to hemorrhages under the 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by fleas and r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ful lymph node swellings called buboes that ooze pus and bl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the skin and underlying tissue until they were covered in dark blo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victims died within four to seven days after inf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d massive depopulation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 in social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ened influence of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ted in Asia but was blamed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ws and le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4" descr="rhooke_flea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93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plague_art"/>
          <p:cNvPicPr/>
          <p:nvPr/>
        </p:nvPicPr>
        <p:blipFill>
          <a:blip r:embed="rId2"/>
          <a:stretch/>
        </p:blipFill>
        <p:spPr>
          <a:xfrm>
            <a:off x="5715000" y="4724280"/>
            <a:ext cx="3200400" cy="1941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bubo"/>
          <p:cNvPicPr/>
          <p:nvPr/>
        </p:nvPicPr>
        <p:blipFill>
          <a:blip r:embed="rId3"/>
          <a:stretch/>
        </p:blipFill>
        <p:spPr>
          <a:xfrm>
            <a:off x="6324480" y="2590920"/>
            <a:ext cx="25909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dance_of_death"/>
          <p:cNvPicPr/>
          <p:nvPr/>
        </p:nvPicPr>
        <p:blipFill>
          <a:blip r:embed="rId1"/>
          <a:stretch/>
        </p:blipFill>
        <p:spPr>
          <a:xfrm>
            <a:off x="0" y="1198440"/>
            <a:ext cx="92962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plaguemap"/>
          <p:cNvPicPr/>
          <p:nvPr/>
        </p:nvPicPr>
        <p:blipFill>
          <a:blip r:embed="rId1"/>
          <a:stretch/>
        </p:blipFill>
        <p:spPr>
          <a:xfrm>
            <a:off x="1143000" y="762120"/>
            <a:ext cx="7031160" cy="5397480"/>
          </a:xfrm>
          <a:prstGeom prst="rect">
            <a:avLst/>
          </a:prstGeom>
          <a:ln w="0">
            <a:noFill/>
          </a:ln>
        </p:spPr>
      </p:pic>
      <p:sp>
        <p:nvSpPr>
          <p:cNvPr id="380" name="Action Button: Information 2"/>
          <p:cNvSpPr/>
          <p:nvPr/>
        </p:nvSpPr>
        <p:spPr>
          <a:xfrm>
            <a:off x="7543800" y="548640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10800" y="41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375">
                <a:moveTo>
                  <a:pt x="10800" y="45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375">
                <a:moveTo>
                  <a:pt x="8224" y="8611"/>
                </a:moveTo>
                <a:lnTo>
                  <a:pt x="12088" y="8611"/>
                </a:lnTo>
                <a:lnTo>
                  <a:pt x="12088" y="15609"/>
                </a:lnTo>
                <a:lnTo>
                  <a:pt x="13376" y="15609"/>
                </a:lnTo>
                <a:lnTo>
                  <a:pt x="13376" y="16531"/>
                </a:lnTo>
                <a:lnTo>
                  <a:pt x="8224" y="16531"/>
                </a:lnTo>
                <a:lnTo>
                  <a:pt x="8224" y="15609"/>
                </a:lnTo>
                <a:lnTo>
                  <a:pt x="9512" y="15609"/>
                </a:lnTo>
                <a:lnTo>
                  <a:pt x="9512" y="9516"/>
                </a:lnTo>
                <a:lnTo>
                  <a:pt x="8224" y="95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flea"/>
          <p:cNvPicPr/>
          <p:nvPr/>
        </p:nvPicPr>
        <p:blipFill>
          <a:blip r:embed="rId2"/>
          <a:stretch/>
        </p:blipFill>
        <p:spPr>
          <a:xfrm>
            <a:off x="1143000" y="5486400"/>
            <a:ext cx="8636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0:52:30Z</dcterms:created>
  <dc:creator>Selena Ramsey</dc:creator>
  <dc:description/>
  <dc:language>en-US</dc:language>
  <cp:lastModifiedBy>poweruser</cp:lastModifiedBy>
  <dcterms:modified xsi:type="dcterms:W3CDTF">2012-04-04T18:45:22Z</dcterms:modified>
  <cp:revision>41</cp:revision>
  <dc:subject/>
  <dc:title>Slide 1</dc:title>
</cp:coreProperties>
</file>